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0834-5573-4F5F-BA77-614D6CED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3603-52D5-42E5-BAA3-CBA9CC1F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11A8-BB22-483B-AF0E-D2CC9016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5616-35D7-4B65-A85E-4AEFD08C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A6D9-73E4-4BCD-AB1C-48A2EAFE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AD9E-8D2D-4698-A251-13EA38D2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CA18-9A99-402E-B3CF-C4DA3444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C7A0-10DD-4ABF-9CBB-4BDC2192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B7E3-79F7-4DE0-AB50-F59B322D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8920-0D44-48ED-A553-3BC40B5E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BEA9-65A8-4453-8E90-6C67E80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AE19C-49CA-4F3F-873A-F26D2F2C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2B1-2F8F-460F-9024-B183633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4D1F-5B40-44BB-8DB8-19003981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CB4-CA24-4795-BB3E-0F64FEE8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05B4-4CED-43BC-9DAB-B0ECDC78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9DCF-F96F-44C2-A054-F4886A7D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B44B-89A8-41A1-928F-F4B35115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6881-B86F-4843-861F-21D6C60A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8D97-8A3C-477C-B323-52D305AF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DAC6-1C0E-4B95-B392-099D218C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9CE8-95CE-4259-BD76-9CAE260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63FA-5C48-44A8-BFF8-ED26B72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DA86-6B51-43EA-8A7A-96CD6BDC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d2d44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1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9C5-2C18-421E-A9A6-EB5FD2B67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f1f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1416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232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e3e5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4446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4547d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a5a8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9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2324b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b4b70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b3b5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838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d4d7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8283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4F6F-2521-478D-A2B6-0B7C112C17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Student</a:t>
            </a:r>
            <a:br>
              <a:rPr sz="4800"/>
            </a:b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Internet Safety </a:t>
            </a:r>
            <a:br>
              <a:rPr sz="4800"/>
            </a:br>
            <a:r>
              <a:rPr b="1" lang="en-US" sz="4800" spc="-1" strike="noStrike">
                <a:solidFill>
                  <a:srgbClr val="33cc33"/>
                </a:solidFill>
                <a:latin typeface="Comic Sans MS"/>
              </a:rPr>
              <a:t>Training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Hawk Scho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s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j0205582"/>
          <p:cNvPicPr/>
          <p:nvPr/>
        </p:nvPicPr>
        <p:blipFill>
          <a:blip r:embed="rId1"/>
          <a:stretch/>
        </p:blipFill>
        <p:spPr>
          <a:xfrm>
            <a:off x="6746760" y="2465280"/>
            <a:ext cx="177660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Ravie"/>
              </a:rPr>
              <a:t>Social networking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hat ro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ulletin bo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Webkinz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Club Pengu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AIM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Facebook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Jokerman"/>
              </a:rPr>
              <a:t>My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hat are some of the things we need to remember about these sit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Jokerman"/>
              </a:rPr>
              <a:t>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517680" y="3846600"/>
            <a:ext cx="443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6" descr="j0292982"/>
          <p:cNvPicPr/>
          <p:nvPr/>
        </p:nvPicPr>
        <p:blipFill>
          <a:blip r:embed="rId5"/>
          <a:stretch/>
        </p:blipFill>
        <p:spPr>
          <a:xfrm>
            <a:off x="6148440" y="2152800"/>
            <a:ext cx="184320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Papyrus"/>
              </a:rPr>
              <a:t>Being comfortable  onlin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ecogn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Avoi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n’t take chances, if you are not sure talk to an adu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Ravie"/>
              </a:rPr>
              <a:t>Personal Informa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hat is personal infor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hy shouldn’t you put this onlin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 rot="19896600">
            <a:off x="1069560" y="3962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 rot="967200">
            <a:off x="6781320" y="396252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6"/>
          <p:cNvSpPr/>
          <p:nvPr/>
        </p:nvSpPr>
        <p:spPr>
          <a:xfrm rot="741600">
            <a:off x="1374480" y="5638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ne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7"/>
          <p:cNvSpPr/>
          <p:nvPr/>
        </p:nvSpPr>
        <p:spPr>
          <a:xfrm rot="562800">
            <a:off x="3964320" y="47239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463800" y="5446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 rot="20586600">
            <a:off x="3736800" y="37339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rie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Chiller"/>
              </a:rPr>
              <a:t>Online Tricks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would someone want to deceive or trick you onli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What if you saw something on the computer you think is illegal or against the law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should you do if you see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j0287005"/>
          <p:cNvPicPr/>
          <p:nvPr/>
        </p:nvPicPr>
        <p:blipFill>
          <a:blip r:embed="rId1"/>
          <a:stretch/>
        </p:blipFill>
        <p:spPr>
          <a:xfrm rot="5187000">
            <a:off x="585360" y="880920"/>
            <a:ext cx="72216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apyrus"/>
              </a:rPr>
              <a:t>There are laws!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laws against copying things from the compu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Ravie"/>
              </a:rPr>
              <a:t>Music     Video     Pictures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Ravie"/>
              </a:rPr>
              <a:t>Written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Give credit where credit is d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Ask per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Bradley Hand ITC"/>
              </a:rPr>
              <a:t>Don’t steal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Ravie"/>
              </a:rPr>
              <a:t>CyberBull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 or inappropriate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LL SOMEON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nd don’t respon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7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Papyrus"/>
              </a:rPr>
              <a:t>The world wide web has a lot to offer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Papyrus"/>
              </a:rPr>
              <a:t>Learn to use it safely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Picture 4" descr="j0300520"/>
          <p:cNvPicPr/>
          <p:nvPr/>
        </p:nvPicPr>
        <p:blipFill>
          <a:blip r:embed="rId1"/>
          <a:stretch/>
        </p:blipFill>
        <p:spPr>
          <a:xfrm>
            <a:off x="3505320" y="4038480"/>
            <a:ext cx="2062080" cy="1773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1:33:15Z</dcterms:created>
  <dc:creator>Judy Smith</dc:creator>
  <dc:description/>
  <dc:language>en-US</dc:language>
  <cp:lastModifiedBy>admin admin</cp:lastModifiedBy>
  <dcterms:modified xsi:type="dcterms:W3CDTF">2010-10-05T14:40:39Z</dcterms:modified>
  <cp:revision>4</cp:revision>
  <dc:subject/>
  <dc:title>Student Internet Safety  Training  </dc:title>
</cp:coreProperties>
</file>